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EF0-A9FB-4293-B073-BE1CD3F8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047-C72F-46B8-AA2A-82D16033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E26-216B-4006-BBCC-423362E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46F-962E-425E-9D41-7346A779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2CE-B89A-44F0-AC6C-6E9E15C7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55F-2A86-4F9D-99B0-E286361D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439-DF11-49E7-9009-DC262C60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524-D997-40A0-81C3-A892FE9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59B-B620-4D7C-832E-23E3A593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34F-7971-451A-9C9E-BF8DB5C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B59-9DA8-4FD4-9779-DABD96BC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41F-BA29-42F9-9D71-53672DC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2E47-072A-4CE0-84F2-9D8DFFE3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CONDIÇÕES DE SAÚDE BU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DA POPULAÇÃO DE CURITI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2438280"/>
            <a:ext cx="4114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onhec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SECRETARIA MUNICIPAL DA SAÚ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evalência de Cárie aos 5 Anos (ceo-d)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Brasil, Região Sul e Curitiba -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-380880" y="1527120"/>
          <a:ext cx="9880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7120"/>
                    <a:ext cx="9880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305000" y="5821200"/>
          <a:ext cx="8308800" cy="722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5000" y="5821200"/>
                    <a:ext cx="8308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57200" y="5334120"/>
          <a:ext cx="8458200" cy="806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334120"/>
                    <a:ext cx="8458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ercentual de Livres de Cárie aos 5 Anos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Curitiba - 1996 e 2003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Brasil e Região Sul -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-457200" y="1447920"/>
          <a:ext cx="989316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447920"/>
                    <a:ext cx="989316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05000" y="5821200"/>
          <a:ext cx="8308800" cy="722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5000" y="5821200"/>
                    <a:ext cx="8308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914400" y="5105520"/>
            <a:ext cx="5867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996 - SMS/PU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003 -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532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eta OMS ano 2000 </a:t>
            </a:r>
            <a:r>
              <a:rPr b="1" lang="pt-B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50% livres de cá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eta OMS ano 2010 </a:t>
            </a:r>
            <a:r>
              <a:rPr b="1" lang="pt-B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90% livres de cá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oporção segundo Componentes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18 a 36 meses, 5 e 12 anos - Curitiba -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905120"/>
          <a:ext cx="914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9480" y="6019920"/>
            <a:ext cx="5867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39625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,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,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3505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3333cc"/>
                </a:solidFill>
                <a:latin typeface="Arial"/>
              </a:rPr>
              <a:t>Uso e Necessidade de Prótese Superior e Infer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00200" y="7920"/>
          <a:ext cx="7772400" cy="36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920"/>
                    <a:ext cx="77724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447920" y="3581280"/>
          <a:ext cx="80010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581280"/>
                    <a:ext cx="80010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21337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0"/>
            <a:ext cx="609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81280"/>
            <a:ext cx="609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631980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cc"/>
                </a:solidFill>
                <a:latin typeface="Arial"/>
              </a:rPr>
              <a:t>Necessidade de Prótese Segundo Tipo de Prót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-228600"/>
          <a:ext cx="83059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228600"/>
                    <a:ext cx="83059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0880" y="3421080"/>
          <a:ext cx="8229600" cy="34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421080"/>
                    <a:ext cx="82296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0"/>
            <a:ext cx="609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581280"/>
            <a:ext cx="609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31980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Condições Periodon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9160" y="1349280"/>
          <a:ext cx="8796240" cy="48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349280"/>
                    <a:ext cx="87962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Número de sextantes analisados e percentual de sextantes sadios e comprometidos -  Curitiba -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631980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Número médio de sextantes comprometidos segundo diagnóstico e faixa etária</a:t>
            </a:r>
            <a:br>
              <a:rPr sz="2800"/>
            </a:b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Curitiba - 200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2133720"/>
          <a:ext cx="83059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3059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62120" y="601992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OPULAÇÃO EXAMI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2819520"/>
          <a:ext cx="8305560" cy="34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19520"/>
                    <a:ext cx="8305560" cy="34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304920"/>
            <a:ext cx="91440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PROJETO SB BRASIL EM CURITI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º SEMESTR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CÂNCER BUCAL</a:t>
            </a:r>
            <a:br>
              <a:rPr sz="2800"/>
            </a:b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Número de Atendimentos no Hosp. Erasto Gaertner</a:t>
            </a:r>
            <a:br>
              <a:rPr sz="2800"/>
            </a:b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1997 a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981080"/>
          <a:ext cx="8915400" cy="38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762120" y="601992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LPCC - Hosp. Erasto Gae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Acesso aos Serviços de Saúde Bucal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ONDE PROCURA ATENDIMENTO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380880" y="1447920"/>
          <a:ext cx="952488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447920"/>
                    <a:ext cx="952488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914400" y="609588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 -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COMO AVALIA O ATENDIMENT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295280"/>
          <a:ext cx="9906120" cy="46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295280" y="6095880"/>
            <a:ext cx="5867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 -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7200" y="609480"/>
            <a:ext cx="1005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evalência de Cárie aos 12 Anos (CPO-D)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Curitiba - 1981 a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380880" y="1066680"/>
          <a:ext cx="995184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066680"/>
                    <a:ext cx="995184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85800" y="4572000"/>
          <a:ext cx="8458200" cy="80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72000"/>
                    <a:ext cx="8458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56386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eta OMS ano 2000 </a:t>
            </a:r>
            <a:r>
              <a:rPr b="1" lang="pt-B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menor que 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eta OMS ano 2010 </a:t>
            </a:r>
            <a:r>
              <a:rPr b="1" lang="pt-B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menor ou igual a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evalência de Cárie aos 12 Anos (CPO-D)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Brasil, Região Sul e Curitiba -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457200" y="1600200"/>
          <a:ext cx="99090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600200"/>
                    <a:ext cx="99090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5715000"/>
          <a:ext cx="8458200" cy="80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15000"/>
                    <a:ext cx="8458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ercentual de Livres de Cárie aos 12 Anos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Curitiba - 1993, 1996 e 2003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Brasil e Região Sul -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380880" y="1676520"/>
          <a:ext cx="99090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676520"/>
                    <a:ext cx="99090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5486400"/>
          <a:ext cx="8420040" cy="800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486400"/>
                    <a:ext cx="84200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evalência de Cárie (CPO-D)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Curitiba -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-1523880" y="1811160"/>
          <a:ext cx="1188720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3880" y="1811160"/>
                    <a:ext cx="11887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38080" y="6019920"/>
            <a:ext cx="5867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oporção segundo Componentes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12 e 15 a 19 anos - Curitiba -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600200"/>
          <a:ext cx="914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56386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eta OMS ano 2010 para 18 anos </a:t>
            </a:r>
            <a:r>
              <a:rPr b="1" lang="pt-B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não ter dentes perd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10552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809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,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2590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oporção segundo Componentes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35 a 44 e 65 a 74 anos - Curitiba -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905120"/>
          <a:ext cx="914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5791320"/>
            <a:ext cx="5867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0,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2971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8,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Prevalência de Cárie aos 5 Anos 9 (ceo-d)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Curitiba - 1989 a 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380880" y="1676520"/>
          <a:ext cx="99108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676520"/>
                    <a:ext cx="99108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5791320"/>
            <a:ext cx="7391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989, 1999 e 2003 - 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995, 1996 - SMS/PU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9:42:00Z</dcterms:created>
  <dc:creator>Vera Lidia Alves de Oliveira</dc:creator>
  <dc:description/>
  <dc:language>en-US</dc:language>
  <cp:lastModifiedBy>user</cp:lastModifiedBy>
  <dcterms:modified xsi:type="dcterms:W3CDTF">2007-03-28T17:17:24Z</dcterms:modified>
  <cp:revision>97</cp:revision>
  <dc:subject/>
  <dc:title>CPO-D 12 ANOS</dc:title>
</cp:coreProperties>
</file>